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10D6-C644-4F7E-9E77-337D6F30A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E2AD-6F2F-472A-8AA7-4E6AF82399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4310-75D1-4B6B-BC82-8C594DD7E4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B916-0372-4D3E-A400-F32BDDD811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8E6C-BFB6-4ECE-9855-A275E23CEE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0851-05C4-40AE-B68A-C2E6E654A6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CFBE-3241-4995-AF07-AE76D35DE9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1A76-DE50-4A92-854E-F6684ED255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80A-3FB6-4823-B893-7AD8E252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2CD-1339-46C6-93D3-B10BBE60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0DB5-6BF0-4F78-92BB-E2DD1439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ACD-8D0A-4B76-ABB8-16D7ED04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EA76-2954-4250-92F4-2AE5DC49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E74D-E320-41CD-96F4-E7919661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8E67-3545-459D-B2B0-434530CF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93B7-CC48-42B6-AC8E-5DAB6CD7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5475-ECEA-4106-8A24-2BAC33CF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681B-C58A-4938-9473-2F090407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9178-25E8-4BE8-82B6-638F9FD6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5125-CC29-4C7F-92D6-CDB66857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5837-3CF6-4A8A-9D02-2BF25B62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9FF2-1B7F-41AC-A9CA-B1049AA0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85D5-00D3-4A56-885A-7E7CDE63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4B77-6843-40A2-BFD2-B5B29975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1992-3254-4B74-B4A6-583C755E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AA1A2-A73D-4637-899D-41FF80BE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6B7BB-EA4F-404E-8F8A-BEEB28DA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075E0-9EE2-4083-A8DC-F57173DC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52CA5-5131-4711-98D1-B6EAA4BF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CBE91-401A-4CBB-B216-4E10F131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A65B-434E-408B-BE4F-6B951B9A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910A9-836D-474D-878C-CD0E6CE2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B0CBF-0D7F-4E6E-A625-AF94F910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1F06C-7B99-458F-8237-5560F51D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5FDB9-1378-4F45-BDA0-57EA9F76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CFEA8-00D2-48E5-A7F6-79A98CB0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7FEC9-12A5-4F68-8607-1319E83E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3F1AB-C2C1-41C7-A3CE-17357B75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A2F84-92C4-4B84-A214-A7661AD7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9211F-5C72-4792-954A-63D9436D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45FD1-A26B-49A9-A330-A9AE852B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EDB6-B188-417F-95E2-0531B59F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D2D2A-3D51-4D61-94D8-BA108785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A0CEB-10A6-4067-9CC5-2937E594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81CDA-F1F1-427D-A4A9-29C6AC1B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F65BB-71B5-427C-A1E4-7C289416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BD578-17F3-40CE-B36D-C7BC1DC1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FD206-0DE3-4D56-8CDA-235E3AB7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6A0C0-5A9A-4AEC-9DAA-DEDEDD2C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3F89B-9DB0-4C24-B2A0-7D482457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B3166-C1DF-4F7B-98BD-D3D1254A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09D1A-E8CB-4979-8A34-AA4765A4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149C-FB24-4197-89A1-D5986B4C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15AC6-8150-43B1-8ADB-5583A863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F1D08-BC53-4D43-994B-F057D87B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49194-85A1-4AB5-A675-6899E4F9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A7FDF-5CEE-4140-8D95-5876F068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5DEAF-5C0B-4B18-8333-C632260B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DE377-D1C7-4523-9122-E06D3F31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500E9-1C6A-4770-AA6E-049A0F24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946F0-3916-4DF2-A2CC-2B6EA10D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20F96-F9D0-4B78-8FA0-9F266156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DBA67-F01C-4874-A13C-A1F8EE8F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B40F-005D-43D1-A413-A3FD6413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69F6E-F4C1-4BFE-8F43-F3796660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0F03E-D77D-44BE-B0F0-23D25364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EA497-281C-494E-A1BD-5EAC02FD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911B8-255C-495C-8FF3-CD0A1DA2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6D85E-C136-4549-A595-1B84887C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5C0CD-95AD-4D57-877B-C36C42D9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F377B-0633-4651-B5FD-19E13466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FA75D-759D-4276-89E2-053A576A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E8FB2-47FC-47D0-A02E-FE4E6D4A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A543D-F473-4343-8170-EEE6D04D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5494-41E3-492C-9BD0-B19D791E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F76F9-5237-4C74-9AD0-8B1C7A4D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78567-1DEE-4D05-991B-89A97FBA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B684D-5689-4B0F-A6D8-B1E84C1E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407D5-A605-4D29-919D-72FCA7C3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630D0-1A65-4F56-AF1F-FD3CC57E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9525C-9B68-429F-BDAB-8A91972C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42635-4404-4E64-BBBA-59FB2777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361D5-C6DD-4FDC-9BCF-E606F88C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C14C8-BC24-40CD-A681-402A0AD1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916A4-6634-46AD-AC0B-233E50C0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F25-EB5A-462A-8C08-C6230534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4EC0A-CAFE-412F-A3FD-0DF82D51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8F795-6AC4-491E-9BCF-27D22BC6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AD080-A23B-4C51-8A57-6309FBCD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C6458-2E69-4DEF-ADE5-0D8726C2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7CDE1-3B44-4C27-8883-2636595B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6B2F6-3DBF-48E6-9C3A-8CCA71C2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E9936-68E7-4481-8C23-725C6F5C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69F5E-F2B8-41A2-ADB3-6D954583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8A78C-911B-481D-B88D-E96C55B0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29FDC-684D-40B3-B766-CB0E82A7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BBD5-3E03-4977-BF9A-4F534D69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99829-E326-4F2E-A854-0F56D2B7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14C17-51B8-412A-BB9D-41FFF840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67482-444C-46D9-B186-BBAA171E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0A89A-CD73-4638-813A-3B9CE36A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21D78-7AD5-46D1-906A-236AEBCE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441DD-0897-4654-B4F6-DB9BEFAC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8DBBB-5C77-4ED4-AFC9-5BCC1720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C369-DE90-41E5-9915-A0B1D34D0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75A7-5D2E-420C-AE62-E1A39D314C1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5748-6881-4075-A645-C4549F2E1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F8C3-E582-42CA-BD97-45FC1D040A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CEBE-AD0B-4C16-B4EF-8210ECC1C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FCFC-F22B-4EF1-888D-47A97AD03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9866-B2B6-4267-9C49-B93BFA7A94F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6D7C-57E2-4D5E-87FC-12A40C0442AA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3500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99444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35940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886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1644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512720" y="1143000"/>
            <a:ext cx="58406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8104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3:18:53Z</dcterms:created>
  <dc:creator>Andrea Pascasio</dc:creator>
  <dc:description/>
  <dc:language>en-US</dc:language>
  <cp:lastModifiedBy>Andrea Pascasio</cp:lastModifiedBy>
  <dcterms:modified xsi:type="dcterms:W3CDTF">2008-12-01T03:28:33Z</dcterms:modified>
  <cp:revision>1</cp:revision>
  <dc:subject/>
  <dc:title>Slide 1</dc:title>
</cp:coreProperties>
</file>